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5.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1"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DEB-72D0-4819-9262-79060A2D4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A393-3AEE-4F48-8DA5-D6E0FA7CD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06FE-21B3-4EBE-87CD-73273647D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14AC-25A5-4A05-8B19-EC70F2025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BE05-7927-4448-925C-B7F840162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10B6-5E5B-4B5C-891E-80C61830C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4DEB-CE95-420B-8DB2-4D5B78E48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120D-7A4B-4E2A-A957-53EF305EC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68D8-559A-44E4-BA71-9CEE9AF41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C997-F6F7-4E76-B7D6-C4EBB9CB2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9F7B-A87B-4209-B89A-DFDD4FC7C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27D5-B15A-4FF0-9407-71026B522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2E66-8A7C-4F15-9D67-4E03231F5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AA2A-2D89-431C-BB8E-0BC321173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0784-8195-44FE-A41B-B6E0F8245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4119-A4D1-40C9-913B-8EC371E33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02BA-122E-4951-A86D-A63002E91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D893-8C4B-4270-8843-6673A739D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5FF0D3-E0BF-495E-8642-87357B8DA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A8F57-11EA-4660-B94D-3F94D5C7C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6FF0D1-0200-4C08-97D9-1A19FB0139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5A06C1-AC46-4060-A9AA-8F9608B47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5E28B1-F97F-479D-9F9E-08C0F48675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A27FF0-A6B8-49FD-BD23-370B5D22A7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DFBBAB-C198-45A9-BF8F-8B1576D03B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5E4A53-C235-41D5-A962-FEA2C51EFE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C8CE6D-1678-4DBF-AD6D-3A6FF99E00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2C96A5-62AB-432D-B326-F5AE0B480D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79B00C-F10B-4E55-B695-6E1FE781C1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24F23B-A492-4B7C-A1C1-66310F94C0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6D2DD5-80B1-47E6-9D10-C0AA6E9FED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AC1FF3-2E92-4BF9-B84E-B6CFAFDBF9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EDE884-E8AF-4714-A920-F3AD1CEB75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30DE0B-F91F-43C0-A5E6-B4B09FB7FD9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2CE274-8CDC-44E7-B6C4-BE67DD134E1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36F27E-AAE6-49BD-9D66-78FECE2877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E92C09-67E3-4BDC-A957-45687484A8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8576C2-B3A0-4A86-B465-43E3D8413F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6C16E7-A4D4-45AE-B0A9-5BE34002FE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E0330E-B05D-4A98-9453-89B518F7D8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556900-85DC-4D8B-8C0D-7A4EE31EC2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418661-7784-47FA-A72E-2557A338E9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F6F4F7-AAB9-43A9-9883-94A18045BD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31BDDB-BD0C-4C4E-A1D1-946D6B7403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7C0C30-BBEA-4241-B77E-558CEC58A9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23E57C-05E8-4824-B018-ABE0FE476B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A88B19-1766-4D55-A4FD-E6AAA0D75C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E29FCB-11D0-4E10-899C-C69BE6C3D0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F4945-9A47-4932-8B2B-1B3297927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4004E-7F25-4175-B0B3-3C6797321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37DB91-159D-4CDF-B432-DFB58071B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367B6-53FF-4D13-8E9C-82BB0CE85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FA7A7-15D3-41E3-81F7-B74FA6FEA9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CD77D-6135-45AD-AD22-C5FD69B73E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01A8-2D78-464D-8EB6-D13B854CA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695D-1AFA-446D-A17D-F7F1FAE31A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 name=""/>
          <p:cNvGrpSpPr/>
          <p:nvPr/>
        </p:nvGrpSpPr>
        <p:grpSpPr>
          <a:xfrm>
            <a:off x="0" y="0"/>
            <a:ext cx="9144000" cy="546120"/>
            <a:chOff x="0" y="0"/>
            <a:chExt cx="9144000" cy="546120"/>
          </a:xfrm>
        </p:grpSpPr>
        <p:sp>
          <p:nvSpPr>
            <p:cNvPr id="4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5"/>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DE31-CB7A-4178-BB54-C4F02B80D0F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0" y="0"/>
            <a:ext cx="9144000" cy="6858000"/>
            <a:chOff x="0" y="0"/>
            <a:chExt cx="9144000" cy="6858000"/>
          </a:xfrm>
        </p:grpSpPr>
        <p:sp>
          <p:nvSpPr>
            <p:cNvPr id="9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
            <p:cNvGrpSpPr/>
            <p:nvPr/>
          </p:nvGrpSpPr>
          <p:grpSpPr>
            <a:xfrm>
              <a:off x="0" y="1066680"/>
              <a:ext cx="2867040" cy="3157560"/>
              <a:chOff x="0" y="1066680"/>
              <a:chExt cx="2867040" cy="3157560"/>
            </a:xfrm>
          </p:grpSpPr>
          <p:sp>
            <p:nvSpPr>
              <p:cNvPr id="9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6EC7-ABCC-491E-9393-D1EE140DAF5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6"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9C9E-A001-4556-8F0D-73279E382E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oftware Testing –</a:t>
            </a:r>
            <a:br>
              <a:rPr sz="4600"/>
            </a:br>
            <a:r>
              <a:rPr b="0" lang="en-US" sz="4600" spc="-1" strike="noStrike">
                <a:solidFill>
                  <a:srgbClr val="000000"/>
                </a:solidFill>
                <a:latin typeface="Arial"/>
              </a:rPr>
              <a:t>An Introduction to Automated Software Testing</a:t>
            </a:r>
            <a:endParaRPr b="0" lang="en-US" sz="4600" spc="-1" strike="noStrike">
              <a:solidFill>
                <a:srgbClr val="000000"/>
              </a:solidFill>
              <a:latin typeface="Arial"/>
            </a:endParaRPr>
          </a:p>
        </p:txBody>
      </p:sp>
      <p:sp>
        <p:nvSpPr>
          <p:cNvPr id="153" name="PlaceHolder 2"/>
          <p:cNvSpPr>
            <a:spLocks noGrp="1"/>
          </p:cNvSpPr>
          <p:nvPr>
            <p:ph type="subTitle"/>
          </p:nvPr>
        </p:nvSpPr>
        <p:spPr>
          <a:xfrm>
            <a:off x="1447560" y="4647960"/>
            <a:ext cx="677844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1</a:t>
            </a:r>
            <a:endParaRPr b="0" lang="en-US" sz="3400" spc="-1" strike="noStrike">
              <a:solidFill>
                <a:srgbClr val="000000"/>
              </a:solidFill>
              <a:latin typeface="Arial"/>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803C-2DE4-47BA-BFCF-D6E07B8D5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sldNum" idx="4"/>
          </p:nvPr>
        </p:nvSpPr>
        <p:spPr/>
        <p:txBody>
          <a:bodyPr/>
          <a:p>
            <a:fld id="{0154B288-9E4E-437B-BA13-7EC4B0808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formance of integration test using an automated test tool for subsequent incremental software builds provide great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new build brings a considerable number of new tests, but also reuses previously developed test scrip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872E3F1-03F2-41B6-A60C-715FE0DEE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 at the system test level represents another example of the efficient use of automate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s seek to verify that the functions provided by the modified system or software product perform as specified and that no unintended change has occurred in the operation of the system or produc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835A2F-3D53-4C25-BC76-283FD7D09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testing can provide several benefits when implemented correctly and follows a rigorous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engineer must evaluate whether the potential benefits fit the required improvement criteria and whether the pursuit of automated testing on a project is still a logical fit, given the organizational nee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180EAD-7B46-4976-BA77-6D3270B121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 of Automated Testing</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 of a reliable syst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ment of the quality of the test effo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of the test effort and minimization of the schedul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E9B719-B6FE-4562-93DC-1122BC4C4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a Reliable System</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performance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load/stres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measurements and test optim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partnership with development te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system development life cycl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C55EFC-7FDB-4CB8-8633-002B56B8FC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roved Quality of the Test Effort - 1</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build verifica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multiplatform compatibility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software compatibility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execution of mundane tes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29A7F82-99FE-499C-BF86-784D988712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roved Quality of the Test Effort - 2</a:t>
            </a:r>
            <a:endParaRPr b="0" lang="en-US" sz="40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focus on advanced test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on of tests that manual testing can’t accompli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reproduce software def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of business knowle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hour test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099C1CD-FECB-4194-B00E-55BAB1B3A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duction of Test Effort and Minimization of Schedule</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rocedure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xec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result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 status/correction monito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crea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2F5BB3D-46E6-44FB-9515-3D19A3B0E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llowing two slides to be inserted</a:t>
            </a:r>
            <a:endParaRPr b="0" lang="en-US" sz="4000" spc="-1" strike="noStrike">
              <a:solidFill>
                <a:srgbClr val="000000"/>
              </a:solidFill>
              <a:latin typeface="Times New Roman"/>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al Versus Automated Test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7DA045B-86AD-4B98-B182-EE8B2B847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ual Versus Automated Testing - 1</a:t>
            </a:r>
            <a:endParaRPr b="0" lang="en-US" sz="4000" spc="-1" strike="noStrike">
              <a:solidFill>
                <a:srgbClr val="000000"/>
              </a:solidFill>
              <a:latin typeface="Times New Roman"/>
            </a:endParaRPr>
          </a:p>
        </p:txBody>
      </p:sp>
      <p:graphicFrame>
        <p:nvGraphicFramePr>
          <p:cNvPr id="192" name=""/>
          <p:cNvGraphicFramePr/>
          <p:nvPr/>
        </p:nvGraphicFramePr>
        <p:xfrm>
          <a:off x="685800" y="1981080"/>
          <a:ext cx="7772400" cy="4508640"/>
        </p:xfrm>
        <a:graphic>
          <a:graphicData uri="http://schemas.openxmlformats.org/drawingml/2006/table">
            <a:tbl>
              <a:tblPr/>
              <a:tblGrid>
                <a:gridCol w="1943280"/>
                <a:gridCol w="1942920"/>
                <a:gridCol w="1981080"/>
                <a:gridCol w="1905120"/>
              </a:tblGrid>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st Steps</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nual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tomated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centage Improvement</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lan Develop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rocedure Develop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Execu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sult Analysi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C79719E-F597-402A-BA9D-84FD1215CF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p</a:t>
            </a:r>
            <a:endParaRPr b="0" lang="en-US"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st lecture, we had discussed the importance of test planning a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8253-9E3E-4B68-80E1-5E7BF83C9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D208843-83BF-4FD0-8893-10D6971D9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ual Versus Automated Testing - 2</a:t>
            </a:r>
            <a:endParaRPr b="0" lang="en-US" sz="4000" spc="-1" strike="noStrike">
              <a:solidFill>
                <a:srgbClr val="000000"/>
              </a:solidFill>
              <a:latin typeface="Times New Roman"/>
            </a:endParaRPr>
          </a:p>
        </p:txBody>
      </p:sp>
      <p:graphicFrame>
        <p:nvGraphicFramePr>
          <p:cNvPr id="194" name=""/>
          <p:cNvGraphicFramePr/>
          <p:nvPr/>
        </p:nvGraphicFramePr>
        <p:xfrm>
          <a:off x="685800" y="1981080"/>
          <a:ext cx="7772400" cy="3684600"/>
        </p:xfrm>
        <a:graphic>
          <a:graphicData uri="http://schemas.openxmlformats.org/drawingml/2006/table">
            <a:tbl>
              <a:tblPr/>
              <a:tblGrid>
                <a:gridCol w="1943280"/>
                <a:gridCol w="1942920"/>
                <a:gridCol w="1981080"/>
                <a:gridCol w="1905120"/>
              </a:tblGrid>
              <a:tr h="855720">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st Steps</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nual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tomated Testing (Hr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centage Improvement</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Status / Correction Monitor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Cre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u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9F328421-DC30-4951-A2E6-C1A905844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lse Expectations for Automated Testing</a:t>
            </a:r>
            <a:endParaRPr b="0" lang="en-US" sz="40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 test plan gene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tool fits al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ediate test effort red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ediate schedule red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 ease of u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al application of test autom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hundred percent coverag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484E21-03E7-4823-BF90-1D9BFE46A5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esting in Rapid Software Development</a:t>
            </a: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B2EC8BF-D17F-40D2-BBB5-665CC4254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apid application development has become popular in the last few years, automated testing has also become an integral p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ly, with the increase in the number of projects using agile manifesto, automated software testing is being used extensivel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773123B-358D-4278-A037-543248C18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gile software development processes include automated software testing as an integral part of the way of they develop software – a sort of modus operand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n area that is open for more research and certainly productivity and efficiency of software testing can increase substantially with automated software testing</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7A9BE40-448D-4DCC-A0E6-5A38BB14A7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utomated Test Tools</a:t>
            </a:r>
            <a:endParaRPr b="0" lang="en-US" sz="5000" spc="-1" strike="noStrike">
              <a:solidFill>
                <a:srgbClr val="000000"/>
              </a:solidFill>
              <a:latin typeface="Arial"/>
            </a:endParaRPr>
          </a:p>
        </p:txBody>
      </p:sp>
      <p:sp>
        <p:nvSpPr>
          <p:cNvPr id="204"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15EDE-ABE3-4545-A114-1514099EC1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est Tools - 1</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support automated execution of black-box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utomated test tool reads a test script, plays the script, and compare the actual results to the original or expected respo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nable repeatability and consistency of test execution as well as productivit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7D0B9F9-6585-4670-956B-242C7A5F8B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est Tools - 2</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ool suites also provide the ability to distribute or simulate the execution of tests over multiple processors, thus providing performance and stress tests to measure the system’s ability to handle high volumes of transactions and user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3049669-EF52-458C-BF49-06F138584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Criteria for Test Tools</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t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05A275-F105-40C6-8A4C-C2A9F47940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tibility</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oes the tool support the platforms and environments of the system under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Level Compat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Level Compat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Level Compat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abi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5017A99-10FB-4064-835E-4A46CE975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s Lecture</a:t>
            </a:r>
            <a:endParaRPr b="0" lang="en-US" sz="44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software testing</a:t>
            </a:r>
            <a:endParaRPr b="0" lang="en-US" sz="32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868C-4F9A-4CB9-B364-18A2A0454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8F6D58C-69DF-4063-BF4B-4E3764D183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bility</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oes it provide the necessary functionality, and are the testers able to make effective use of it without a prohibitive learning cur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urv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8409F77-DE5F-4429-B94B-3ED7F6E2A2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ainability</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 changes to the system under test be accommodated in the automated tests without undue effo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E1E282-9061-4BBA-9B77-7D3BF03724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ability</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oes the tool provide sufficient and meaningful information to enable management of the test library and measurement of the test resul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Library Managemen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0F935C5-B017-4764-908A-E783BC5720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results should be meaningful to inform management of the status of the system under test and its quality relative to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tools should be reviewed to determine the amount and quality of test result information; analysis and reporting capabilities are either included or can be made availab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2CB717-78CF-4A0D-BC6D-036700C25A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Generation - 1</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tic creation of test case data, as opposed to sampling or other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 High volumes of test conditions can be cre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 Volume alone is not guarantor of coverage or efficac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066D83D-700B-4B95-9D7C-F88CABF0E6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Generation - 2</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ce cla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number of test c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one test case that exercises the same path, or too few to cover all the path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effect node graph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953117-1A39-4D46-A1DB-E918C0E0FE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Selection - 1</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evel of experience does the vendor offer in the implementation of automated test too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ervices does the vendor offer for training as well as implementation to assure that the tool is properly deploye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3A96092-4622-49E1-B283-CE957B22AB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Selection - 2</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readily available and responsive is the vendor to technical questions and iss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it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vendor committed to the automated test tools market or is it only one of several offering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9438D7-A90A-4390-A1ED-B4D34E29CB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7282-84CF-42DC-9450-6E5A3C793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d a brief introduction of automated software test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we talked about the selection criteria for test tools from the technical aspect as well as from the aspect of vendors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CE0A892-D500-4E15-A52B-96B54B9446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0986-8378-4A66-A18C-054F147C3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Software Testing by Elfriede Dustin, Jeff Rashka, and John Paul, Addison-Wesley, 1999 (Chapters 1-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roads to Software Quality by Alka Jarvis and Vern Crandall (Chapter 6.5)</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4D8914-00E0-4A66-80AE-863F35E106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ies have shown that companies are missing shipping deadlines for their software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90% of developers have missed ship dates, and </a:t>
            </a:r>
            <a:r>
              <a:rPr b="0" lang="en-US" sz="3200" spc="-1" strike="noStrike">
                <a:solidFill>
                  <a:srgbClr val="ff0000"/>
                </a:solidFill>
                <a:latin typeface="Times New Roman"/>
              </a:rPr>
              <a:t>missing deadlines</a:t>
            </a:r>
            <a:r>
              <a:rPr b="0" lang="en-US" sz="3200" spc="-1" strike="noStrike">
                <a:solidFill>
                  <a:srgbClr val="000000"/>
                </a:solidFill>
                <a:latin typeface="Times New Roman"/>
              </a:rPr>
              <a:t> is a routine occurrence for 67% of develop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numbers are very alarming for our industr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B74053-FBFE-487A-9162-E08462F59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software managers and developers are being asked to turn around their products within ever-shrinking schedules and with minimal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a product to market as early as possible may mean the difference between product survival and product death – and therefore company survival and death</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EE61DF6-92E2-4704-877E-9B274A2EF9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attempt to do more with less, organizations want to test their software adequately, but within a minimal 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complish this, organizations are turning to automate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is automated test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3E00BB-5778-4A31-8E40-AD48A08960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esting</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nagement and performance of test activities, to include the development and execution of test scripts so as to verify test requirements, using an automated test too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D8E8E8-C3F6-4532-A74E-BDBF7D273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software testing addresses the challenge for today’s software professionals who are faced with real schedule deadlin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477F56-6542-448E-B2B1-62A8FEB0E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tomation of test activities provides its greatest value in instances where test scripts are repeated or where test script sub-routines are created and then invoked repeatedly by a number of test scrip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AF11DF-B7D9-4BC1-8536-9018D42DD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6-22T05:18:02Z</dcterms:modified>
  <cp:revision>513</cp:revision>
  <dc:subject/>
  <dc:title>Software Quality Assurance and Testing</dc:title>
</cp:coreProperties>
</file>